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A4E-0359-484D-90B6-1ADF3247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46A-9357-4F27-B974-CC8B8881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ACE-E4F0-410A-9729-2EBE3136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316-EE59-4A33-A279-2C8211BD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605-1273-49D3-8243-C8B0002A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F7F-9E93-46BD-A7B2-A7DE0180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A1E-73F5-459C-9D4A-BCDEA546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79C-2FB5-4EAF-B979-C58E3BA0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5CB-3B73-46A1-AFED-505089B8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BF9-4E9B-4E2D-A7F4-F4D2FE54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3F3-8D67-4BBF-AE44-480D537F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8EC-2D77-41F1-ADFE-58799079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F9E1-1F11-4308-86D3-90AC60C1B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5053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28195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94,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9144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971080" y="9144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9144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1337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ET 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1337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CM 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Switzer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1337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Valclair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Switzer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133720"/>
            <a:ext cx="1066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spell Magnus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MSA (forme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T Swi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ydro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echnologies S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971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CM Resita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neco Hol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Switzer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6576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ydro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ngineering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36576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CM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licenta AN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6576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CM Tr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066680"/>
            <a:ext cx="7617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ner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nsult 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C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Switzer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10666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ttel Inve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Cypr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25909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even Tr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3962520"/>
            <a:ext cx="914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omelec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3505320"/>
            <a:ext cx="1066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ower Consult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licenta AN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ximp Miner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dissolv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441972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ni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olding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licen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343400"/>
            <a:ext cx="914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terna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nsul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nginee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Switzerla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60958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iance-A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60958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M Al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Russ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42670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miko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Hunga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6172200"/>
            <a:ext cx="761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ni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3623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cko S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0666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Energy Part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Bulgar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1522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Arial"/>
              </a:rPr>
              <a:t>Energy Hol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Bucha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(licenta AN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65760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obu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esita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Former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om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ussi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u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609588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tomenergom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owned by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ussian governm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60958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Ziomar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Russ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53341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8006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un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pany 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Mark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un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295280"/>
            <a:ext cx="914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at Corpat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6765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ragos D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Moldov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2895480"/>
            <a:ext cx="9907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icolae Bogd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uzaia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914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91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9718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1905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638320" y="25909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53341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nstant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avor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327672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Viorel Gaf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81680" y="29718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238880" y="297180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296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867280" y="3581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609588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Ro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bramov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41008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jan Hor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nstant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35053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191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808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99036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48006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oris Golov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4495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20004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20004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00040" y="541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80060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ita C-tin Livi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(inchis si grati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 Ili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5638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33360" y="510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5105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67057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6019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60199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94324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866920" y="6324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4724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52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00992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0992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00992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4:59:14Z</dcterms:created>
  <dc:creator>sorin</dc:creator>
  <dc:description/>
  <dc:language>en-US</dc:language>
  <cp:lastModifiedBy>dude</cp:lastModifiedBy>
  <dcterms:modified xsi:type="dcterms:W3CDTF">2006-09-03T14:40:39Z</dcterms:modified>
  <cp:revision>36</cp:revision>
  <dc:subject/>
  <dc:title>Slide 1</dc:title>
</cp:coreProperties>
</file>